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9.wmf" ContentType="image/x-wmf"/>
  <Override PartName="/ppt/media/image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7.gif" ContentType="image/gif"/>
  <Override PartName="/ppt/media/image25.jpeg" ContentType="image/jpeg"/>
  <Override PartName="/ppt/media/image4.jpeg" ContentType="image/jpeg"/>
  <Override PartName="/ppt/media/image10.wmf" ContentType="image/x-wmf"/>
  <Override PartName="/ppt/media/image24.gif" ContentType="image/gif"/>
  <Override PartName="/ppt/media/image12.wmf" ContentType="image/x-wmf"/>
  <Override PartName="/ppt/media/image30.wmf" ContentType="image/x-wmf"/>
  <Override PartName="/ppt/media/image31.gif" ContentType="image/gif"/>
  <Override PartName="/ppt/media/image17.wmf" ContentType="image/x-wmf"/>
  <Override PartName="/ppt/media/image13.gif" ContentType="image/gif"/>
  <Override PartName="/ppt/media/image16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3.jpeg" ContentType="image/jpeg"/>
  <Override PartName="/ppt/media/image15.png" ContentType="image/png"/>
  <Override PartName="/ppt/media/image14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22.wmf" ContentType="image/x-wmf"/>
  <Override PartName="/ppt/media/image23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152-C9AB-4BE5-A5FD-EC660D73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5DB-D739-41E1-8759-80555756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14F-367A-4AD1-BB4A-4BFA662F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C62-7F2D-4117-A2DB-1B61DB76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4531-5740-42CE-A445-38FB07FF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B799-A23D-42E8-8CB8-070BD80B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7C06-B595-4238-B730-3856E405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45D-DD93-43EF-ABB8-13D5C4CB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74B4-062A-4981-8E49-C6BEF97A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FA5-94F6-4B8E-8931-44EFC688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9247-609B-47D2-BD23-3B0FF6F8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E2C-FD34-45B2-90E2-2312C0CD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3AB6-2AF6-492D-A44A-7ECD59C4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0F1-97AE-4C0F-B56F-2B7B99D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8B3F-CD0A-4C09-9A83-57E8DB82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D04C-96A9-4736-9D0F-8C79014C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E638-57EE-4D84-9E75-05F0907C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10C-46B2-4A21-BFC2-57C4D6E2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D18-344C-4AB9-892F-ACD3C4E1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A62-8FBF-45BA-8431-3434750B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89F-7F77-4F78-8346-A124B028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83E-F76F-4DCE-9734-A75E661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954-08A7-4275-B4B0-791E4F6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1C1-1C8E-46AE-9511-9B16DDD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783-2A24-4571-B4D7-9BF17D977F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2ECB-6A09-4BCE-A3A5-FCD21EF2D5A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1" name="Picture 4" descr="j0297705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nine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7" descr="C:\Users\gnwalton\AppData\Local\Microsoft\Windows\Temporary Internet Files\Content.IE5\UXQ2WTWY\MC900014095[1].wmf"/>
          <p:cNvPicPr/>
          <p:nvPr/>
        </p:nvPicPr>
        <p:blipFill>
          <a:blip r:embed="rId1"/>
          <a:stretch/>
        </p:blipFill>
        <p:spPr>
          <a:xfrm>
            <a:off x="6454800" y="2362320"/>
            <a:ext cx="2089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br>
              <a:rPr sz="3600"/>
            </a:b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Give example.es of heat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j0233391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that is contained in Electromagnetic wav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What risk might occur for moving energy through power lines?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i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4" descr="j0346439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7" descr="slide2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re can energy be found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ion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8" name="Picture 4" descr="eit-304-sm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9" descr="j0233105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1905120" y="5638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The Surry Nuclear Power Plant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8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f Nuclear energy is the most concentrated form of energy why do you think it is not the most used?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i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11" descr="j0238729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62" name="Picture 4" descr="j0239867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24280" y="1981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n you throw a bow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think that mechanical energy gives energy to other object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 Energy in Heat wav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unligh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Bulb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dlight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C:\Users\gnwalton\AppData\Local\Microsoft\Windows\Temporary Internet Files\Content.IE5\IL4FTOGN\MC900432617[1].png"/>
          <p:cNvPicPr/>
          <p:nvPr/>
        </p:nvPicPr>
        <p:blipFill>
          <a:blip r:embed="rId1"/>
          <a:stretch/>
        </p:blipFill>
        <p:spPr>
          <a:xfrm>
            <a:off x="518148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ight is a part of electromagnetic energy, why do you think we are studying it separatel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4" descr="j0149003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149108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und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squeezing of air molecules when an object vibrates (travels in waves)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usic instruments and noise carry sound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3" descr="C:\Users\gnwalton\AppData\Local\Microsoft\Windows\Temporary Internet Files\Content.IE5\SFXCLWCO\MC900440448[1].wmf"/>
          <p:cNvPicPr/>
          <p:nvPr/>
        </p:nvPicPr>
        <p:blipFill>
          <a:blip r:embed="rId1"/>
          <a:stretch/>
        </p:blipFill>
        <p:spPr>
          <a:xfrm>
            <a:off x="4114800" y="40384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ical Energy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in electricity and electrical charged object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ical energy is produced by an electrical curren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" descr="C:\Users\gnwalton\AppData\Local\Microsoft\Windows\Temporary Internet Files\Content.IE5\IL4FTOGN\MC910217618[1].wmf"/>
          <p:cNvPicPr/>
          <p:nvPr/>
        </p:nvPicPr>
        <p:blipFill>
          <a:blip r:embed="rId1"/>
          <a:stretch/>
        </p:blipFill>
        <p:spPr>
          <a:xfrm>
            <a:off x="5562720" y="3505320"/>
            <a:ext cx="15159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agnetic Energy can be found in door buzzers, speakers, and of course magnet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Magnetic energy as a form of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 or transformat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9" descr="j0189238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5" name="Picture 7" descr="j0289534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e up with an example of an energy conversion involving 3 forms of energy with your shoulder partn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Question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we need energy? What would happen if we did not have energy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603360" y="685800"/>
            <a:ext cx="766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e up with and example when demonstrating that both mass and velocity impact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 Potent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also be stored because of the work done on it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dependent on height is called gravitational potential energ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6" descr="j0174827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4" descr="j0215316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astic 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j0289575.jpg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j0287339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1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11" descr="j0150157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4" descr="j0289499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y do you think we classify potential energy in three different categor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26" name="Picture 4" descr="ce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71600" y="16002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gh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und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05520" y="16765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4" descr="j0332364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288860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7" descr="j0283219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j0281782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j0196198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Kimberly K. Piper</cp:lastModifiedBy>
  <dcterms:modified xsi:type="dcterms:W3CDTF">2015-10-05T19:35:25Z</dcterms:modified>
  <cp:revision>41</cp:revision>
  <dc:subject/>
  <dc:title>Energy:</dc:title>
</cp:coreProperties>
</file>